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636-B93C-4B8E-9A3B-03BC0324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2BF-8FF0-4351-B9D7-3F69CCB1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C7D-4C2E-4F24-985F-C33B0848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5662-504D-472C-848A-12D0F59C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460F-D44D-4A67-A027-14D4D1A9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701A-B6AD-4BC5-A9DC-0EF2402A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ED8B-A6C8-4DE0-A653-882CA465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BDE6-A612-4414-BCB1-CF88E45E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6069-49FE-4908-88F4-16D11520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4792-2E59-4C65-BDD2-281B607E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B0E6-4D62-4721-9859-A65FCE60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EB6-D4B9-4DD4-BA05-FF270378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BA2A-28CD-4F6A-B493-5E80A240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7426-F56F-428B-9B48-803CB3B9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D4C3-B5FC-4F11-8662-867BA7DF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A485-F902-45C9-9AF2-DFA6992A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DAC1-4460-4504-80D0-2EE46426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A34F-0A49-4C91-AE16-144993D6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D80-CA46-4D09-834C-BA2E6952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AFFB-3ABF-4CC9-82BA-45064540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591-3242-4D3F-ABA2-B41F7A88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9BE-EA0D-448B-80B7-87F671B9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3EC-5276-4B95-AA62-67FF85F9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A0A-F529-40A6-A3D8-0DFB7473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9B77-9D27-43A3-A89C-46DED16ADE7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601A-6D3E-4D52-AC38-FDD85EDA2C4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personal learning profi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a’Darriu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learning sty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y learning style is tacti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at means that I’m kinesthetic: I learn best by do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learning techniqu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 abstarct sequential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at means that I have a imaginative, neat, and orde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hemisphere of my bra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found out that my left side of my brain is less dominate than my right sid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re dominate than my left brai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intelligence typ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hysical awareness and street wise intelligenc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at means that I’m physical and smar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y its important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ou might learn different from other peop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can I apply 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can apply it when I ever need i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48:03Z</dcterms:created>
  <dc:creator>student</dc:creator>
  <dc:description/>
  <dc:language>en-US</dc:language>
  <cp:lastModifiedBy>student</cp:lastModifiedBy>
  <dcterms:modified xsi:type="dcterms:W3CDTF">2010-10-26T13:57:40Z</dcterms:modified>
  <cp:revision>5</cp:revision>
  <dc:subject/>
  <dc:title>   My personal learning profile</dc:title>
</cp:coreProperties>
</file>